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a facilitator, post the Guidelines for Whole-Class Math Talk attached to the MATCH template.  Suggest that we are going to practice these guidelines over the course of the week as we engage in a number of different learning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844B-7572-48EE-A2B5-DA720DAFF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1126-5E13-4620-90FB-DC05C4063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D979-82CC-44EA-82AF-8D7803F1F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E588-2E4A-45F2-BFAC-2B066DC38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AF71-74DD-4EDC-9CEC-1C19E8A426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F722-F0D9-4C97-BD27-A0B5BE775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DC6B-6C04-4DDD-8143-0B89DEEF3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534D-FCB7-4C91-9CE7-14D16946E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791B-6511-4058-9F12-99755C654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CDF8-544E-4DA7-BF4F-EDE7CB4B2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40DB-EA55-4F1A-A420-861B326D8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8A36-BDC3-4E42-B491-522053576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BE6-E717-432B-BB29-5FDA488CBC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10C3-89C2-405E-B7B5-DADBD5F5AF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t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your goal for Math CAMPP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33A8-6601-4431-BEEC-6E4A30C3C1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573-35E6-43EC-B8F2-E4258C8228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our Corn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A617-0632-4947-9758-29F3965B44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E:\Beach Images\Beach &amp; Water (A - B)\Boating 07.wmf"/>
          <p:cNvPicPr/>
          <p:nvPr/>
        </p:nvPicPr>
        <p:blipFill>
          <a:blip r:embed="rId2"/>
          <a:stretch/>
        </p:blipFill>
        <p:spPr>
          <a:xfrm>
            <a:off x="5943600" y="3581280"/>
            <a:ext cx="271476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E:\Beach Images\Beach &amp; Water (A - B)\Building a Sand Castle 01.wmf"/>
          <p:cNvPicPr/>
          <p:nvPr/>
        </p:nvPicPr>
        <p:blipFill>
          <a:blip r:embed="rId3"/>
          <a:stretch/>
        </p:blipFill>
        <p:spPr>
          <a:xfrm>
            <a:off x="380880" y="365760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E:\Beach Images\Beach &amp; Water (A - B)\Boy Diving 2.wmf"/>
          <p:cNvPicPr/>
          <p:nvPr/>
        </p:nvPicPr>
        <p:blipFill>
          <a:blip r:embed="rId4"/>
          <a:stretch/>
        </p:blipFill>
        <p:spPr>
          <a:xfrm>
            <a:off x="6781680" y="228600"/>
            <a:ext cx="1486080" cy="30193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4" descr="E:\Beach Images\Beach &amp; Water (A - B)\Boys with Canoe.wmf"/>
          <p:cNvPicPr/>
          <p:nvPr/>
        </p:nvPicPr>
        <p:blipFill>
          <a:blip r:embed="rId5"/>
          <a:stretch/>
        </p:blipFill>
        <p:spPr>
          <a:xfrm>
            <a:off x="457200" y="13716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4"/>
          <p:cNvSpPr/>
          <p:nvPr/>
        </p:nvSpPr>
        <p:spPr>
          <a:xfrm>
            <a:off x="3657600" y="167652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What was your comfort level when you were studying mathematics as a stu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ding with a Purpos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3A59-819B-471A-82FD-FD3423F78A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782640" indent="-743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Read the Research Monograph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82640" indent="-743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s a result of this research, what might a teacher do to create a collaborative learning commun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2b5ca9"/>
                </a:solidFill>
                <a:latin typeface="Arial"/>
              </a:rPr>
              <a:t>Square Share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iscuss with your table group the focus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port ou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DC33-8FB7-4432-B2C9-AE3B45150D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York Region District Schoolboard</cp:lastModifiedBy>
  <dcterms:modified xsi:type="dcterms:W3CDTF">2011-08-17T22:13:01Z</dcterms:modified>
  <cp:revision>23</cp:revision>
  <dc:subject/>
  <dc:title>&lt;Title&gt;</dc:title>
</cp:coreProperties>
</file>